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E6FC-7443-4FFE-85F7-1BC2FABEF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E021-ED8B-42D2-9C7E-B7D80EE7F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7C81-ECC4-45B3-A71F-B9ABD905F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D718-45F2-45FA-8287-36B4D5515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2ABE-A009-4E33-A590-55F45D329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3176-3EA0-4F65-AE97-244423462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9E65-3D1A-405B-9471-272155DD1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F41D-D5F9-4019-B491-7444043E4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6B01-CEF2-40D0-A67C-95E35387A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3613-DF72-4C0C-9A92-CD24E3CA0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09FD-CC96-4459-A9E2-54DA08217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E9F6-36BA-4262-A2E6-4CEF8BCE1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DDE3D-674D-436D-977A-43A86E300D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poets.org/viewmedia.php/prmMID/5946#imnotsorry" TargetMode="External"/><Relationship Id="rId2" Type="http://schemas.openxmlformats.org/officeDocument/2006/relationships/image" Target="../media/image2.png"/><Relationship Id="rId3" Type="http://schemas.openxmlformats.org/officeDocument/2006/relationships/hyperlink" Target="http://www.raydillon.com/Images/Writing/Poetry/SheIsAddiction.jpg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openartspace.org/pairing.html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Bodoni MT Black"/>
              </a:rPr>
              <a:t>Visual Poet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sto MT"/>
              </a:rPr>
              <a:t>Poetry that is meant to be s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sto MT"/>
              </a:rPr>
              <a:t>Linguistic constructs communicate with visual elem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sto MT"/>
              </a:rPr>
              <a:t>Any poem is visual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876920" y="1447920"/>
            <a:ext cx="266688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Bodoni MT Black"/>
              </a:rPr>
              <a:t>Simpl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Visual elem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Fo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hotograp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r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Quilts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97560" y="1143000"/>
            <a:ext cx="40892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ER OF BEING T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tchen Fletcher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952880" y="1676520"/>
            <a:ext cx="3881520" cy="34606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572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were beate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ck and washed forth and beate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ck on rubber raf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ke so much summer flotsam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jetsam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the seam between sea and l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the waves spit soap bubbles in ar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ong the sand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we said, "We could stay in the wat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the rest of our liv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they could bring us hamburgers to eat and Cokes to drink."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No. The whole ocean would be Coke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we could swim in i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drink it too."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the sun stu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r chicken-wing shoulder blades golden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our suits and all ou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ret plac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led up with sand,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 behind us streamed our mermaidens' hair in salty strands.</a:t>
            </a:r>
            <a:br>
              <a:rPr sz="16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SHED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 Summer's Reading, 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openartspace.org/pairing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ather Outsid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Nick Flyn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black river flows down the center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each page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amp; on either side the banks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e wrapped in snow. My father is ink falling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iny blossoms, a bottl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rapped in a paperbag. I want to believ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at if I get the story right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will rise, newly formed,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at I will stand over him again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he sleeps outside under the church halogen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ly this time I will know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to say. It is night &amp;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's snowing &amp; starlings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ll the trees above us, so many it seems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leaves sing. I can't see them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til they rise together at some hidden signal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amp; hold the shape of the tree for a moment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fore scattering. I wait for his breath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lift his blanket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 I know he's alive, letting the story settle 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o the shape of this city. Three girls in the park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gin to sing something holy, a song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th a lost room inside it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their prayerbook comes unglued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amp; scatters. I'll bend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ch finger back, until the bottle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lls, until the bone snaps, save him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y destroying his hands. With the thaw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river will rise &amp; he will be forced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higher ground. No one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ll have to tell him. From my roof I can se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East River, it looks blackened with oil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t it's only the light. Even now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y father is asleep somewhere. If I followed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river north I could still reach him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www.poets.org/viewmedia.php/prmMID/168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ather Outsid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Nick Flynn and Josh Neufel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4243320" cy="49528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572000" y="1219320"/>
            <a:ext cx="42670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019920" y="2819520"/>
            <a:ext cx="2666880" cy="36576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lex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BC’s Poetry on Display Proje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rn Magazine: Art and Literature Collabor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fter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ong the gospel tr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30T01:25:58Z</dcterms:created>
  <dc:creator>Scott Poole</dc:creator>
  <dc:description/>
  <dc:language>en-US</dc:language>
  <cp:lastModifiedBy>Scott Poole</cp:lastModifiedBy>
  <dcterms:modified xsi:type="dcterms:W3CDTF">2008-01-30T02:41:19Z</dcterms:modified>
  <cp:revision>3</cp:revision>
  <dc:subject/>
  <dc:title>SUMMER OF BEING TEN  Gretchen Fletcher  </dc:title>
</cp:coreProperties>
</file>